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24EB-C0AD-418C-94B7-350943031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045-9054-41C5-A29A-73E597F1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DD3-BCFA-4352-BB89-E99B4EDD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AC4-0A29-4FC2-9A8A-5244FABC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6693-4D5B-49E7-BCDB-94B537BA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2B4A-27D7-4C0B-8D91-80E5FCA5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F20D-A088-42DF-8902-0A70F49C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EC59-2786-450E-B1E3-8143BB15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CFBE-E3BA-4D77-A33B-930BBF11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4316-9036-46BC-9AEC-E10C60CB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021E-B733-4DA6-97E3-8230C13F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0E94-BDAA-47FC-8F7E-4DA45E5B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7DC-73A0-4BE9-8B9F-83AF9725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87E3-14AE-4C68-A7FF-E1873FA2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E910-F02D-404B-AB58-54770665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9412-FBC7-487B-B6E9-2B4613FB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F9FF-562D-4CA9-9148-4E5CCDD3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10B6-FBC0-4E01-9CC1-B83FB36D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2F429-7244-4828-BE07-73DF898D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4385F-D7F7-4841-8BE6-33E72835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D1A31-1F84-41B7-8D42-D9EB4346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BF2B5-E49A-4ED0-B87B-DA5EE5A6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1D3D7-78C0-481E-8FD0-F6FA151E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706-D807-497D-9729-3FFBA281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3542-F213-4D22-A339-13A96408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0949-E3A5-457B-9DD1-05610648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FEE8-9C43-4EA7-A7C4-BC12EB7E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D0A5-F8ED-4B9B-B33B-60A90D07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17936-4794-44EA-BCB1-9817BE06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A3A33-D984-455C-B106-22E4039A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3B97E-1549-401F-99FD-B45C626A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BFBE-90BB-469E-AC8C-88133597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AA1C6-5427-42E5-B6EC-E9749F79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856C9-FB51-4018-8B22-A58CA77B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05A-42B7-4C7A-8302-7729DA5F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668E5-0F48-466A-9D11-26A577AD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6BA68-C43F-47D2-A81A-A57F0F98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2189A-BAF4-4C84-940B-326462DB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E235D-F496-45F4-B540-60A6B759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95943-23B3-4D41-992B-B10FCBD8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2E2DE-4E5A-4F1C-8F01-689EE82E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274F9-EC7E-4013-84A0-66AFF87B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F5358-E45E-4FFA-9669-C85DD25F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9E884-D3F6-4AAE-AD0B-717C016A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77701-471C-47C8-ABD0-EAD224C0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F98-49DD-4089-A32B-6127CC52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E766A-3B6F-433F-971A-7662A899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93129-F3D2-48D2-938E-156C9D87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953D0-954D-42E0-8C1B-579B47DC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E7501-E4F5-40EA-A61A-401E3F6F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3D494-3C74-4BCB-AE7C-995A2030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83FD9-80A3-4652-AC0C-7E17EF8F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DE3BF-4830-43EC-8136-5A3C830C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B6E90-ABA2-4C15-A003-4D8F44C5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9069A-A893-40FA-AA4C-E347E2EF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49364-19C5-410D-842D-2A1612CB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A204-E83D-464C-9E9E-4D10DEB1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65191-DE37-4F99-A78F-1D8D196A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368BF-6073-487E-B326-E478D40A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7AEEC-3B2A-4234-9855-C6D9B104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A225E-FDD0-4B55-9749-F9136773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4C548-47FB-4A1A-A51E-33D532B9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ED79D-7AB8-49B6-9444-9208B0C8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08F3A-318B-4D10-82D7-49BF2FFA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D1992-AB60-4CAC-9CEA-0C250E98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45D16-4B3D-483B-B098-95CC4AA9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E6EDD-BB21-4483-99F3-DC388DCF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3E4-0B0C-4633-BE96-A3A7CE7A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CC4D2-0101-4859-99D6-831B3648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9F756-9137-4BD0-8617-3F18A7E9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CE87C-F96B-4CD5-AAE8-FC73F965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A0FE3B-161F-4DC8-89C9-C90C02EE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0E0F2-D593-415F-A7D0-08C39508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A3258-72FA-48E6-A187-6CCA5510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007F0-9563-4903-BB73-A1E42649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BE391-B604-45A6-A5F3-DB608B22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912E1-E923-4E05-B1FE-C3C6C758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E3C825-5F16-44EC-8450-3E505DEF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A0E-3023-41B0-BDD7-0E4B5661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6D489-999F-4D0C-904B-CE69069A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19FE19-E16A-4028-B5B9-AF4DD0BA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33F44-FFCD-42E8-AF72-4DA91C52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13B35C-4B8F-47DC-BCC6-B1D93B13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6EB075-296E-4A4D-A462-D620AA15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9413D-2579-43B0-AE1F-F1583966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13571-78B0-4ED0-9598-6BBCA2F6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5D9F8-74A7-405C-A900-0FF22A0F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C9E41-908D-4A70-9A6D-D51D63AF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ACCED-A68D-4260-97B8-F58D2A6F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35F-C000-42E2-B39F-489F2161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C5796-35A3-4450-9365-ACA1D0E9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E79C2-1435-4FE1-A380-78699B49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02307-1DFF-4FEA-9544-61171762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A6BF8-D296-48B2-AFB3-3ABABCB9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63BE8-DF2A-4278-8FD6-6D8CAAA6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4BC34-67FA-41FB-A3D0-7C5D57EE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34440-28B1-4268-973C-3284FD01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7058-C724-40D6-A99D-5F8E16E55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BD8C-225E-446C-ACDF-B0F598DFA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252E-C3D9-4D48-8EEB-D5851ABF2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131C-FFE0-4BEF-9E07-66CB04717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ED37-4165-4990-9F90-97CD53B146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8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8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28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3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33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34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3C15-EAA1-41D7-998F-172E887BE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F5A6-24C2-4D3C-AE69-7541B5D57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3758-7A05-4C49-9EA8-3C0F4E7908B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 Transformations Un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90720" y="30477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For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n Algebra 2 Cours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Project Funded by the National Science Foundatio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written by Kirk Tayl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6" name="Picture 5" descr="Pupfish"/>
          <p:cNvPicPr/>
          <p:nvPr/>
        </p:nvPicPr>
        <p:blipFill>
          <a:blip r:embed="rId1"/>
          <a:stretch/>
        </p:blipFill>
        <p:spPr>
          <a:xfrm>
            <a:off x="1066680" y="1219320"/>
            <a:ext cx="1086120" cy="63792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7495E-006 C 0.02292 -0.01781 0.04584 -0.03539 0.06372 -0.04395 C 0.0816 -0.05251 0.09393 -0.05043 0.10764 -0.05136 C 0.12136 -0.05228 0.13247 -0.05621 0.14618 -0.04974 C 0.1599 -0.04326 0.17344 -0.02822 0.19011 -0.0118 C 0.20677 0.00462 0.2316 0.0384 0.24618 0.04834 C 0.26077 0.05829 0.26459 0.05019 0.27795 0.04834 C 0.29132 0.04649 0.31476 0.04464 0.32639 0.03655 C 0.33802 0.02845 0.34063 0.01018 0.34722 2.07495E-006 C 0.35382 -0.01018 0.35955 -0.0199 0.3658 -0.02498 C 0.37205 -0.03007 0.37882 -0.02984 0.38455 -0.03077 C 0.39028 -0.03169 0.39028 -0.03401 0.4 -0.03077 C 0.40972 -0.02753 0.43316 -0.01573 0.44288 -0.0118 C 0.45261 -0.00787 0.44931 -0.01203 0.45816 -0.0074 C 0.46702 -0.00278 0.48577 0.01203 0.49549 0.01596 C 0.50521 0.01989 0.50938 0.02567 0.5165 0.01596 C 0.52361 0.00624 0.53247 -0.03031 0.53837 -0.04257 C 0.54427 -0.05483 0.5467 -0.05297 0.55157 -0.05714 C 0.55643 -0.0613 0.56233 -0.0657 0.56806 -0.06732 C 0.57379 -0.06894 0.5783 -0.06755 0.58559 -0.06732 C 0.59288 -0.06709 0.60643 -0.06662 0.61198 -0.06593 C 0.61754 -0.06523 0.61754 -0.06338 0.61858 -0.06292 E">
                                      <p:cBhvr>
                                        <p:cTn id="40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Practice makes pretty good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99"/>
                </a:solidFill>
                <a:latin typeface="Tahoma"/>
              </a:rPr>
              <a:t>Evening Enrichment Opportunitie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AutoShape 4"/>
          <p:cNvSpPr/>
          <p:nvPr/>
        </p:nvSpPr>
        <p:spPr>
          <a:xfrm rot="21024600">
            <a:off x="1836360" y="2614680"/>
            <a:ext cx="1290600" cy="1092240"/>
          </a:xfrm>
          <a:prstGeom prst="smileyFace">
            <a:avLst>
              <a:gd name="adj" fmla="val 1296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AutoShape 5"/>
          <p:cNvSpPr/>
          <p:nvPr/>
        </p:nvSpPr>
        <p:spPr>
          <a:xfrm rot="648000">
            <a:off x="5857920" y="2704680"/>
            <a:ext cx="1295280" cy="1067040"/>
          </a:xfrm>
          <a:prstGeom prst="smileyFace">
            <a:avLst>
              <a:gd name="adj" fmla="val 1370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c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684920" cy="1193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pperplate Gothic Bold"/>
              </a:rPr>
              <a:t>Assess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acher Observation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of ske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interaction and peer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sessment Too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class demonstration and presentation of student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CF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zes and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Assess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A. Ru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371600" y="4267080"/>
            <a:ext cx="1295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4038480" y="434340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477120" y="4343400"/>
            <a:ext cx="1295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733920" y="1447920"/>
            <a:ext cx="1523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3733920" y="40384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Albertus Extra Bold"/>
              </a:rPr>
              <a:t>FTU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371600" y="388620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s and Polynomial Func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248520" y="3962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ekton"/>
              </a:rPr>
              <a:t>Exponential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3733920" y="1600200"/>
            <a:ext cx="167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ITC Avant Garde Gothic"/>
              </a:rPr>
              <a:t>Symbolic Language Fluenc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WordArt 12"/>
          <p:cNvSpPr txBox="1"/>
          <p:nvPr/>
        </p:nvSpPr>
        <p:spPr>
          <a:xfrm>
            <a:off x="1805040" y="2971800"/>
            <a:ext cx="581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0066ff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ow Does an FTU Fit In?</a:t>
            </a:r>
            <a:endParaRPr b="0" lang="en-US" sz="3200" spc="1" strike="noStrike">
              <a:ln w="28440">
                <a:solidFill>
                  <a:srgbClr val="0066ff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2076497200030222410lSThCs_ph"/>
          <p:cNvPicPr/>
          <p:nvPr/>
        </p:nvPicPr>
        <p:blipFill>
          <a:blip r:embed="rId1"/>
          <a:srcRect l="14508" t="14381" r="16469" b="18469"/>
          <a:stretch/>
        </p:blipFill>
        <p:spPr>
          <a:xfrm>
            <a:off x="304920" y="1143000"/>
            <a:ext cx="6705360" cy="48006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685800" y="380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Thanks! It was great!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6" presetSubtype="16">
                                  <p:stCondLst>
                                    <p:cond delay="8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CTM Standards and California Content Standards call for all students to have skill in function transform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st Algebra 2 curriculums teach it, but not as a cohesive and comprehensive set of princip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gives students the power and knowledge to transform many types of func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 rot="21260400">
            <a:off x="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ransform = </a:t>
            </a:r>
            <a:r>
              <a:rPr b="0" lang="en-US" sz="3600" spc="-1" strike="noStrike">
                <a:solidFill>
                  <a:srgbClr val="40458c"/>
                </a:solidFill>
                <a:latin typeface="Snap ITC"/>
              </a:rPr>
              <a:t>Chang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228600" y="19810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aphs are pictures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3" name="Picture 4" descr="worldpop2050"/>
          <p:cNvPicPr/>
          <p:nvPr/>
        </p:nvPicPr>
        <p:blipFill>
          <a:blip r:embed="rId1"/>
          <a:stretch/>
        </p:blipFill>
        <p:spPr>
          <a:xfrm>
            <a:off x="838080" y="2438280"/>
            <a:ext cx="2667240" cy="2381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daln195l"/>
          <p:cNvPicPr/>
          <p:nvPr/>
        </p:nvPicPr>
        <p:blipFill>
          <a:blip r:embed="rId2"/>
          <a:stretch/>
        </p:blipFill>
        <p:spPr>
          <a:xfrm>
            <a:off x="4952880" y="2362320"/>
            <a:ext cx="2743200" cy="20984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6"/>
          <p:cNvSpPr/>
          <p:nvPr/>
        </p:nvSpPr>
        <p:spPr>
          <a:xfrm>
            <a:off x="533520" y="4876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hematics is a symbolic language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1828800" y="5410080"/>
                <a:ext cx="53341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ach the rules of FT as a single comprehensive set of princi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t add time to the Algebra 2 cale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simple, low-technology and graphing calculators to give students confidence with fun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increase their fluency with function 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ther Learning Objectives for the FTU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re math vocabulary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symptote, increasing/decreasing function, odd/even function, inflection point, point symmetry,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more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tter curve-sketching techniq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foundations for further stu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6" name="Group 15"/>
          <p:cNvGrpSpPr/>
          <p:nvPr/>
        </p:nvGrpSpPr>
        <p:grpSpPr>
          <a:xfrm>
            <a:off x="2133720" y="2895480"/>
            <a:ext cx="3885840" cy="1447920"/>
            <a:chOff x="2133720" y="2895480"/>
            <a:chExt cx="3885840" cy="1447920"/>
          </a:xfrm>
        </p:grpSpPr>
        <p:grpSp>
          <p:nvGrpSpPr>
            <p:cNvPr id="517" name="Group 5"/>
            <p:cNvGrpSpPr/>
            <p:nvPr/>
          </p:nvGrpSpPr>
          <p:grpSpPr>
            <a:xfrm>
              <a:off x="2133720" y="2895480"/>
              <a:ext cx="3885840" cy="1389960"/>
              <a:chOff x="2133720" y="2895480"/>
              <a:chExt cx="3885840" cy="1389960"/>
            </a:xfrm>
          </p:grpSpPr>
          <p:sp>
            <p:nvSpPr>
              <p:cNvPr id="518" name="Line 6"/>
              <p:cNvSpPr/>
              <p:nvPr/>
            </p:nvSpPr>
            <p:spPr>
              <a:xfrm>
                <a:off x="2133720" y="3550320"/>
                <a:ext cx="38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2448720" y="2895480"/>
                <a:ext cx="3150720" cy="1389960"/>
              </a:xfrm>
              <a:custGeom>
                <a:avLst/>
                <a:gdLst/>
                <a:ahLst/>
                <a:rect l="l" t="t" r="r" b="b"/>
                <a:pathLst>
                  <a:path w="4320" h="2880">
                    <a:moveTo>
                      <a:pt x="0" y="0"/>
                    </a:moveTo>
                    <a:cubicBezTo>
                      <a:pt x="312" y="1272"/>
                      <a:pt x="624" y="2544"/>
                      <a:pt x="1152" y="2592"/>
                    </a:cubicBezTo>
                    <a:cubicBezTo>
                      <a:pt x="1680" y="2640"/>
                      <a:pt x="2640" y="240"/>
                      <a:pt x="3168" y="288"/>
                    </a:cubicBezTo>
                    <a:cubicBezTo>
                      <a:pt x="3696" y="336"/>
                      <a:pt x="4008" y="1608"/>
                      <a:pt x="4320" y="28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0" name="Line 8"/>
              <p:cNvSpPr/>
              <p:nvPr/>
            </p:nvSpPr>
            <p:spPr>
              <a:xfrm>
                <a:off x="2807640" y="4079880"/>
                <a:ext cx="94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1" name="Line 9"/>
              <p:cNvSpPr/>
              <p:nvPr/>
            </p:nvSpPr>
            <p:spPr>
              <a:xfrm>
                <a:off x="4353840" y="3027600"/>
                <a:ext cx="83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2" name="Line 10"/>
              <p:cNvSpPr/>
              <p:nvPr/>
            </p:nvSpPr>
            <p:spPr>
              <a:xfrm flipH="1">
                <a:off x="4233600" y="2904840"/>
                <a:ext cx="808920" cy="30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3" name="Line 11"/>
              <p:cNvSpPr/>
              <p:nvPr/>
            </p:nvSpPr>
            <p:spPr>
              <a:xfrm>
                <a:off x="4528800" y="2904840"/>
                <a:ext cx="71388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4" name="Line 12"/>
              <p:cNvSpPr/>
              <p:nvPr/>
            </p:nvSpPr>
            <p:spPr>
              <a:xfrm>
                <a:off x="2734560" y="3884400"/>
                <a:ext cx="83988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5" name="Line 13"/>
              <p:cNvSpPr/>
              <p:nvPr/>
            </p:nvSpPr>
            <p:spPr>
              <a:xfrm flipV="1">
                <a:off x="2912400" y="3906720"/>
                <a:ext cx="94500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26" name="Line 14"/>
            <p:cNvSpPr/>
            <p:nvPr/>
          </p:nvSpPr>
          <p:spPr>
            <a:xfrm>
              <a:off x="4059000" y="2895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it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troducing the Big 6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Quadratic   </a:t>
            </a:r>
            <a:r>
              <a:rPr b="1" lang="en-US" sz="2000" spc="-1" strike="noStrike">
                <a:solidFill>
                  <a:srgbClr val="40458c"/>
                </a:solidFill>
                <a:latin typeface="Bradley Hand ITC"/>
              </a:rPr>
              <a:t>Sketching Techniq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ubic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tencil"/>
              </a:rPr>
              <a:t>Generalizing       </a:t>
            </a:r>
            <a:r>
              <a:rPr b="0" lang="en-US" sz="2400" spc="-1" strike="noStrike">
                <a:solidFill>
                  <a:srgbClr val="40458c"/>
                </a:solidFill>
                <a:latin typeface="Impact"/>
              </a:rPr>
              <a:t>power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bsolute Valu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quare Roo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Exponential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4648320" y="5334120"/>
                <a:ext cx="380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nctio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225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Guided Inquiry 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52252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Work collaboratively under well-define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ake conclusions and conjectures based o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676520" y="1752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tudent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Guided Inquiry Activ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clear rules for collabor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time limi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mmarize points of the activi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ess students’ understanding and modify lessons as necessar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Teacher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39" name="Picture 5" descr="20060704kaisertop"/>
          <p:cNvPicPr/>
          <p:nvPr/>
        </p:nvPicPr>
        <p:blipFill>
          <a:blip r:embed="rId6">
            <a:lum contrast="-42000"/>
          </a:blip>
          <a:stretch/>
        </p:blipFill>
        <p:spPr>
          <a:xfrm>
            <a:off x="4952880" y="1371600"/>
            <a:ext cx="2629080" cy="19717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1:54:05Z</dcterms:created>
  <dc:creator>Ed_user</dc:creator>
  <dc:description/>
  <dc:language>en-US</dc:language>
  <cp:lastModifiedBy>LEGION</cp:lastModifiedBy>
  <dcterms:modified xsi:type="dcterms:W3CDTF">2017-07-06T06:34:21Z</dcterms:modified>
  <cp:revision>17</cp:revision>
  <dc:subject/>
  <dc:title>Function Transformations Unit</dc:title>
</cp:coreProperties>
</file>